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AF6-B525-41F0-AF9E-A9D96C9D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175-F8B7-44D6-90FF-4D53EAE4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D3C-90A6-47D8-95C4-344F198C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EF0-DD53-4281-A068-27CA08B9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CDC-1673-42D4-BB6A-0F6F34F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62D-D06D-40C1-AB22-3C165719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29D-9EBE-4E3D-B57F-0E4BFEB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F7A-8225-4147-9B8A-D898D57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C83-5621-4123-B639-5841E0A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D6F-5A83-4782-8D4F-198C91B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7ED-2D6F-42F7-A017-EB5F0F46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1CC-77D7-4776-B7B8-041905D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95A-EBA1-41ED-B23C-68EE891E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WELCOME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RINCIPAL LEADERSHIP FOR THE 21</a:t>
            </a:r>
            <a:r>
              <a:rPr b="0" lang="en-US" sz="8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43000" y="5791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yan Wise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fice of the Director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pecial Assist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day’s Agen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00-9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lcome, Challenges/Solutions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Compensation Task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xt Mtg on Nov 20:  Troyce Fisher -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>
            <a:off x="533520" y="510552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047600" cy="94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5410080" y="6211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#principals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alibri"/>
              </a:rPr>
              <a:t>Do we know it (deep learning) when we see it? And what do we do if we don't? </a:t>
            </a:r>
            <a:br>
              <a:rPr sz="72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r. Scott McLeod; PLAEA Director of Innovation 9.25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 Habits of Highly Effectiv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-leading Principals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atmosphere that inspires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ster collab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open to new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 connected learner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 and provide adequat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visionary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5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edtechutb.visibli.com/share/OlAg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81240" cy="1454040"/>
          </a:xfrm>
          <a:prstGeom prst="rect">
            <a:avLst/>
          </a:prstGeom>
          <a:ln w="0">
            <a:noFill/>
          </a:ln>
        </p:spPr>
      </p:pic>
      <p:sp>
        <p:nvSpPr>
          <p:cNvPr id="54" name="Straight Connector 5"/>
          <p:cNvSpPr/>
          <p:nvPr/>
        </p:nvSpPr>
        <p:spPr>
          <a:xfrm>
            <a:off x="228600" y="1447920"/>
            <a:ext cx="58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7668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Your greatest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challenge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this year and a possible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Calibri"/>
              </a:rPr>
              <a:t>solution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you are trying or thinking about try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 thing you are hoping to learn today from our guest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30-11: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Tilly, DE – Restructuring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vention at th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yan Wise, DE – Teacher Leadersh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Compensation Tas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457200" y="2666880"/>
            <a:ext cx="79246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op Stor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Education Director – Wendy Parker, Newton CSD (Dec 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7;  Supt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 Association of Iowa; Director Leann Jacob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M; Iowa Lakes Hub Manager Kari Web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8;  Regents Admissions Mythbust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livestream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30-4:30 p.m. Educator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:00-8:30 p.m. Everyone is Inv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0 &amp; 11; 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 Physical Education at B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12;  Legislative Panel Conversation; 6:00-8:00 p.m. at PLAEA office in Pocahontas; SAI Fall M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 21;  Challenging Behaviors Mtg – Is there 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6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f49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429000" y="15238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uriosity, which is a habit of asking good questions &amp; a desire to understand more dee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ollaboration, which begins w/ listening to &amp; learning from, others who have perspectives &amp; expertise that are very different from your ow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ssociative or integrative thin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bias toward action &amp; experi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5720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 most essential qualities of a successful innovator appear to be the following: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0" y="541008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INNOVATIO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Showcase – Jan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r. David Tilly, DE</a:t>
            </a:r>
            <a:br>
              <a:rPr sz="8800"/>
            </a:br>
            <a:br>
              <a:rPr sz="8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vision of Learning &amp; Results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puty Director &amp; Administ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9:09:07Z</dcterms:created>
  <dc:creator>Administrator</dc:creator>
  <dc:description/>
  <dc:language>en-US</dc:language>
  <cp:lastModifiedBy>Administrator</cp:lastModifiedBy>
  <dcterms:modified xsi:type="dcterms:W3CDTF">2012-10-30T19:32:10Z</dcterms:modified>
  <cp:revision>20</cp:revision>
  <dc:subject/>
  <dc:title>Today’s Agenda:</dc:title>
</cp:coreProperties>
</file>