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DC28-7687-48D5-B6F1-F0EE785F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849-6610-40C0-8F2A-77169A36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714-C5FE-472F-AEAE-B6A5355B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D00-12B4-40B8-AB7B-2EDF09B3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5EFE-005A-409D-8A27-34F42061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80C-7B45-4F1F-8E32-066F2847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236-F2B1-4AAC-BF20-EBFEC858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2DD-BB1E-4EE8-BD1B-5E1FB8BD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6C6-4A52-4D1A-8142-FC4AF2F6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6BC7-9782-4BC9-92FE-A2523894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377-024C-4FE4-97F6-EA024F3C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725-4EB0-4142-AC79-DF549295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4024-AF22-4821-8BA9-E298ADFFE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WELCOME Day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PRINCIPAL LEADERSHIP FOR THE 21</a:t>
            </a:r>
            <a:r>
              <a:rPr b="0" lang="en-US" sz="8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143000" y="57913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principals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yan Wise, DE</a:t>
            </a:r>
            <a:br>
              <a:rPr sz="8800"/>
            </a:br>
            <a:br>
              <a:rPr sz="8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ffice of the Director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pecial Assista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oday’s Agend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9:00-9:3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lcome, Challenges/Solutions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twork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9:30-11:3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vid Tilly, DE – Restructuring &amp;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invention at the 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1:30-12:0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yan Wise, DE – Teacher Leadership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amp;Compensation Task For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xt Mtg on Nov 20:  Troyce Fisher -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533520" y="5105520"/>
            <a:ext cx="7238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1047600" cy="946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5410080" y="6211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#principalsl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alibri"/>
              </a:rPr>
              <a:t>Do we know it (deep learning) when we see it? And what do we do if we don't? </a:t>
            </a:r>
            <a:br>
              <a:rPr sz="7200"/>
            </a:b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Dr. Scott McLeod; PLAEA Director of Innovation 9.25.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7 Habits of Highly Effectiv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-leading Principals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 atmosphere that inspires inno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ster collab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open to new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 connected learner your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 and provide adequat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a visionary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6095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ttp://edtechutb.visibli.com/share/OlAg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181240" cy="1454040"/>
          </a:xfrm>
          <a:prstGeom prst="rect">
            <a:avLst/>
          </a:prstGeom>
          <a:ln w="0">
            <a:noFill/>
          </a:ln>
        </p:spPr>
      </p:pic>
      <p:sp>
        <p:nvSpPr>
          <p:cNvPr id="54" name="Straight Connector 5"/>
          <p:cNvSpPr/>
          <p:nvPr/>
        </p:nvSpPr>
        <p:spPr>
          <a:xfrm>
            <a:off x="228600" y="1447920"/>
            <a:ext cx="5867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7668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Your greatest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alibri"/>
              </a:rPr>
              <a:t>challenge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this year and a possibl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alibri"/>
              </a:rPr>
              <a:t>solution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you are trying or thinking about try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 thing you are hoping to learn today from our guests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240" y="2666520"/>
            <a:ext cx="89154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:30-11: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vid Tilly, DE – Restructuring &amp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nvention at th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yan Wise, DE – Teacher Leadershi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amp; Compensation Task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5"/>
          <p:cNvSpPr/>
          <p:nvPr/>
        </p:nvSpPr>
        <p:spPr>
          <a:xfrm>
            <a:off x="457200" y="2666880"/>
            <a:ext cx="79246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op Stor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Education Director – Wendy Parker, Newton CSD (Dec 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7;  Supt Mt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ology Association of Iowa; Director Leann Jacob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M; Iowa Lakes Hub Manager Kari Web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8;  Regents Admissions Mythbuster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livestream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:30-4:30 p.m. Educators On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:00-8:30 p.m. Everyone is Invi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10 &amp; 11; 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ntury Physical Education at BV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12;  Legislative Panel Conversation; 6:00-8:00 p.m. at PLAEA office in Pocahontas; SAI Fall Mt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21;  Challenging Behaviors Mtg – Is there a ne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61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429000" y="152388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uriosity, which is a habit of asking good questions &amp; a desire to understand more deep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ollaboration, which begins w/ listening to &amp; learning from, others who have perspectives &amp; expertise that are very different from your ow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ssociative or integrative thin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bias toward action &amp; experim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45720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of the most essential qualities of a successful innovator appear to be the following: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0" y="5410080"/>
            <a:ext cx="3657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INNOVATION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howcase – Jan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Dr. David Tilly, DE</a:t>
            </a:r>
            <a:br>
              <a:rPr sz="8800"/>
            </a:br>
            <a:br>
              <a:rPr sz="8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ivision of Learning &amp; Results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eputy Director &amp; Administ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09:09:07Z</dcterms:created>
  <dc:creator>Administrator</dc:creator>
  <dc:description/>
  <dc:language>en-US</dc:language>
  <cp:lastModifiedBy>Administrator</cp:lastModifiedBy>
  <dcterms:modified xsi:type="dcterms:W3CDTF">2012-10-30T19:32:10Z</dcterms:modified>
  <cp:revision>20</cp:revision>
  <dc:subject/>
  <dc:title>Today’s Agenda:</dc:title>
</cp:coreProperties>
</file>