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30C-EDF6-4441-95DD-DAB6EE20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E2A-A17C-4C53-9757-2F9B81F1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BFC-2498-4A31-951D-13B9FE7F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5FE-D82F-4B57-8352-E63BD3DB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17D-2238-456E-BFF0-C17A59DD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346-BE53-47B0-8F3D-C64461C9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594-DFDD-4D29-8586-F10D3B1E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328-E71E-4B57-93E2-E2A67996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4A8-D56F-477D-A263-C2F050BE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7C3-3886-4D3E-B714-F164E3D9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A63-9998-4326-82FF-C7505A81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F33-FA63-4E79-B4B3-1E6F4839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8560-B4F6-4378-AE37-8BD43685B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WELCOME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PRINCIPAL LEADERSHIP FOR THE 21</a:t>
            </a:r>
            <a:r>
              <a:rPr b="0" lang="en-US" sz="8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43000" y="57913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yan Wise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ffice of the Director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pecial Assista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day’s Agend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00-9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lcome, Challenges/Solutions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amp;Compensation Task For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xt Mtg on Nov 20:  Troyce Fisher -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533520" y="5105520"/>
            <a:ext cx="7238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047600" cy="94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5410080" y="6211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alibri"/>
              </a:rPr>
              <a:t>Do we know it (deep learning) when we see it? And what do we do if we don't? </a:t>
            </a:r>
            <a:br>
              <a:rPr sz="72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r. Scott McLeod; PLAEA Director of Innovation 9.25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 Habits of Highly Effecti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-leading Principals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atmosphere that inspires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ster collab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open to new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 connected learner your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 and provide adequat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visionary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6095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edtechutb.visibli.com/share/OlAg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181240" cy="1454040"/>
          </a:xfrm>
          <a:prstGeom prst="rect">
            <a:avLst/>
          </a:prstGeom>
          <a:ln w="0">
            <a:noFill/>
          </a:ln>
        </p:spPr>
      </p:pic>
      <p:sp>
        <p:nvSpPr>
          <p:cNvPr id="54" name="Straight Connector 5"/>
          <p:cNvSpPr/>
          <p:nvPr/>
        </p:nvSpPr>
        <p:spPr>
          <a:xfrm>
            <a:off x="228600" y="1447920"/>
            <a:ext cx="5867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7668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Your greates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challenge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this year and a possibl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solution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you are trying or thinking about try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 thing you are hoping to learn today from our guest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2666520"/>
            <a:ext cx="89154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Compensation Tas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5"/>
          <p:cNvSpPr/>
          <p:nvPr/>
        </p:nvSpPr>
        <p:spPr>
          <a:xfrm>
            <a:off x="457200" y="2666880"/>
            <a:ext cx="79246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op Stor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Education Director – Wendy Parker, Newton CSD (Dec 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7;  Supt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ology Association of Iowa; Director Leann Jacob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M; Iowa Lakes Hub Manager Kari Web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8;  Regents Admissions Mythbust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livestream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:30-4:30 p.m. Educator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:00-8:30 p.m. Everyone is Invi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0 &amp; 11; 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ntury Physical Education at BV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2;  Legislative Panel Conversation; 6:00-8:00 p.m. at PLAEA office in Pocahontas; SAI Fall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21;  Challenging Behaviors Mtg – Is there 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6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429000" y="152388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uriosity, which is a habit of asking good questions &amp; a desire to understand more deep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ollaboration, which begins w/ listening to &amp; learning from, others who have perspectives &amp; expertise that are very different from your 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ssociative or integrative thin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bias toward action &amp; experi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5720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 most essential qualities of a successful innovator appear to be the following: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0" y="5410080"/>
            <a:ext cx="365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INNOVATION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howcase – Jan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Dr. David Tilly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ivision of Learning &amp; Results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puty Director &amp; Administ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9:09:07Z</dcterms:created>
  <dc:creator>Administrator</dc:creator>
  <dc:description/>
  <dc:language>en-US</dc:language>
  <cp:lastModifiedBy>Administrator</cp:lastModifiedBy>
  <dcterms:modified xsi:type="dcterms:W3CDTF">2012-10-30T19:32:10Z</dcterms:modified>
  <cp:revision>20</cp:revision>
  <dc:subject/>
  <dc:title>Today’s Agenda:</dc:title>
</cp:coreProperties>
</file>