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82F9-2C2B-4689-B654-1702A00FF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4B48-8CFA-4FB5-9145-15616D89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7AC3-1C84-4DE6-BA52-9C9A1F860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ADAF-D6C6-4E5F-9AF3-081BEC02F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5B9F-7A59-44A9-9ED7-D9046890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E367-A42F-4E3F-B377-8A29883F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D599-3CB0-4528-BC3D-2CDFEC61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3FB3-FB19-4E23-B0CE-5213606E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2221-AA0A-4158-B129-F279411C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F979-98C2-4359-9A1D-EE9B14A0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4F45-A301-47E1-B5E9-99677F64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79BA-DB75-41AD-A2AA-F306CDC0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CE92-7039-460D-8124-757E7E334B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Black"/>
              </a:rPr>
              <a:t>WELCOME Day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14479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PRINCIPAL LEADERSHIP FOR THE 21</a:t>
            </a:r>
            <a:r>
              <a:rPr b="0" lang="en-US" sz="8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 CENTURY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143000" y="579132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principalsl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Ryan Wise, DE</a:t>
            </a:r>
            <a:br>
              <a:rPr sz="8800"/>
            </a:br>
            <a:br>
              <a:rPr sz="8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Office of the Director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pecial Assista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Today’s Agenda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9:00-9:30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lcome, Challenges/Solutions,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twork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9:30-11:30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avid Tilly, DE – Restructuring &amp;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invention at the 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1:30-12:00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yan Wise, DE – Teacher Leadership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&amp;Compensation Task For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xt Mtg on Nov 20:  Troyce Fisher -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6"/>
          <p:cNvSpPr/>
          <p:nvPr/>
        </p:nvSpPr>
        <p:spPr>
          <a:xfrm>
            <a:off x="533520" y="5105520"/>
            <a:ext cx="7238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7848720" y="457200"/>
            <a:ext cx="1047600" cy="946080"/>
          </a:xfrm>
          <a:prstGeom prst="rect">
            <a:avLst/>
          </a:prstGeom>
          <a:ln w="0">
            <a:noFill/>
          </a:ln>
        </p:spPr>
      </p:pic>
      <p:sp>
        <p:nvSpPr>
          <p:cNvPr id="48" name="TextBox 9"/>
          <p:cNvSpPr/>
          <p:nvPr/>
        </p:nvSpPr>
        <p:spPr>
          <a:xfrm>
            <a:off x="5410080" y="62118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#principalsl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Calibri"/>
              </a:rPr>
              <a:t>Do we know it (deep learning) when we see it? And what do we do if we don't? </a:t>
            </a:r>
            <a:br>
              <a:rPr sz="7200"/>
            </a:b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Dr. Scott McLeod; PLAEA Director of Innovation 9.25.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7 Habits of Highly Effectiv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ch-leading Principals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n atmosphere that inspires inno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ster collabo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open to new id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a connected learner yoursel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te and provide adequate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 ri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a visionary fo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57200" y="60958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ttp://edtechutb.visibli.com/share/OlAg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629400" y="228600"/>
            <a:ext cx="2181240" cy="1454040"/>
          </a:xfrm>
          <a:prstGeom prst="rect">
            <a:avLst/>
          </a:prstGeom>
          <a:ln w="0">
            <a:noFill/>
          </a:ln>
        </p:spPr>
      </p:pic>
      <p:sp>
        <p:nvSpPr>
          <p:cNvPr id="54" name="Straight Connector 5"/>
          <p:cNvSpPr/>
          <p:nvPr/>
        </p:nvSpPr>
        <p:spPr>
          <a:xfrm>
            <a:off x="228600" y="1447920"/>
            <a:ext cx="5867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6172200" y="3200400"/>
            <a:ext cx="76680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Your greatest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alibri"/>
              </a:rPr>
              <a:t>challenge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 this year and a possible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alibri"/>
              </a:rPr>
              <a:t>solution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 you are trying or thinking about trying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 thing you are hoping to learn today from our guests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240" y="2666520"/>
            <a:ext cx="89154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:30-11:3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vid Tilly, DE – Restructuring &amp;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invention at the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yan Wise, DE – Teacher Leadership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amp; Compensation Task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traight Connector 5"/>
          <p:cNvSpPr/>
          <p:nvPr/>
        </p:nvSpPr>
        <p:spPr>
          <a:xfrm>
            <a:off x="457200" y="2666880"/>
            <a:ext cx="79246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Top Storie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al Education Director – Wendy Parker, Newton CSD (Dec 1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v 7;  Supt Mt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ology Association of Iowa; Director Leann Jacobs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M; Iowa Lakes Hub Manager Kari Web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v 8;  Regents Admissions Mythbuster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livestream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:30-4:30 p.m. Educators On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:00-8:30 p.m. Everyone is Invi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v 10 &amp; 11; 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entury Physical Education at BV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v 12;  Legislative Panel Conversation; 6:00-8:00 p.m. at PLAEA office in Pocahontas; SAI Fall Mt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v 21;  Challenging Behaviors Mtg – Is there a ne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  <p:animClr clrSpc="rgb"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61">
                                      <p:txEl>
                                        <p:pRg st="14" end="1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152388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429000" y="1523880"/>
            <a:ext cx="5410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Curiosity, which is a habit of asking good questions &amp; a desire to understand more deep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Collaboration, which begins w/ listening to &amp; learning from, others who have perspectives &amp; expertise that are very different from your ow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ssociative or integrative think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 bias toward action &amp; experimen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457200" y="3808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of the most essential qualities of a successful innovator appear to be the following: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0" y="5410080"/>
            <a:ext cx="3657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INNOVATION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Showcase – Jan 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Dr. David Tilly, DE</a:t>
            </a:r>
            <a:br>
              <a:rPr sz="8800"/>
            </a:br>
            <a:br>
              <a:rPr sz="8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Division of Learning &amp; Results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Deputy Director &amp; Administ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09:09:07Z</dcterms:created>
  <dc:creator>Administrator</dc:creator>
  <dc:description/>
  <dc:language>en-US</dc:language>
  <cp:lastModifiedBy>Administrator</cp:lastModifiedBy>
  <dcterms:modified xsi:type="dcterms:W3CDTF">2012-10-30T19:32:10Z</dcterms:modified>
  <cp:revision>20</cp:revision>
  <dc:subject/>
  <dc:title>Today’s Agenda:</dc:title>
</cp:coreProperties>
</file>