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9BA0-CE1F-4382-AA34-2D47C0CA4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69AF-27ED-4D37-82F6-FD1C80F3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411F-69EF-4C5A-B238-F6087CDA0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8CC9-A212-428C-BCF8-F8251945A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BE81-C568-41A3-B958-29141F31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EB47-69C3-4E3C-B028-10AF5840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6324-69AC-4862-B09A-9F67F1DD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93F7-A9EC-41C9-8749-29BC2A6E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0708-1F6C-4D85-A988-6B0B4A47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55B0-0A93-4CFD-BF80-09669FD7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AA8C-3F13-4A51-A8D8-C1E3FC00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550D-B153-4815-84C1-BA0E623C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D153-035E-4A19-A150-6BC08FD442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EA Princip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elcome and Happy Holi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533520"/>
            <a:ext cx="2981160" cy="1533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2971800" y="533520"/>
            <a:ext cx="2981160" cy="1533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3"/>
          <a:stretch/>
        </p:blipFill>
        <p:spPr>
          <a:xfrm>
            <a:off x="5943600" y="533520"/>
            <a:ext cx="298116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oyce Fisher – Immunities to Chan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28240" y="18288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ep 1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dentify your commit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ep 2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cognize counter-productive behavi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ep 3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dentify competing commitm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ep 4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me your big assump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ep 5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arn how to overcome your big assump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traight Connector 4"/>
          <p:cNvSpPr/>
          <p:nvPr/>
        </p:nvSpPr>
        <p:spPr>
          <a:xfrm>
            <a:off x="380880" y="1371600"/>
            <a:ext cx="83822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riet Adam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"/>
              </a:rPr>
              <a:t>Digital Citizenship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3"/>
          <p:cNvSpPr/>
          <p:nvPr/>
        </p:nvSpPr>
        <p:spPr>
          <a:xfrm>
            <a:off x="380880" y="1447920"/>
            <a:ext cx="83822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ews &amp; No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560" y="129492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alanced Leadership (McREL) – 7 days in 2013-1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w Compact – AEA Systems’ bold statement of co-ownership of student learning; goals of early literacy and reducing achievement ga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4K – Collaborating for Iowa’s Kids – statewide focus of Early Literacy (by 3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grade) thru work teams; educator quality, RTI, Iowa Core and School Improv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anuary 29 Innovation Showcase – need 8 volunteers to share/engage in 15 minu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anuary 29 – also be learning about Instructional Rounds for our visits to MNW (2.18) &amp; G-T (2.19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traight Connector 3"/>
          <p:cNvSpPr/>
          <p:nvPr/>
        </p:nvSpPr>
        <p:spPr>
          <a:xfrm>
            <a:off x="380880" y="1143000"/>
            <a:ext cx="83822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7543800" y="0"/>
            <a:ext cx="1309680" cy="981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96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f81b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f81b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f81b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f81b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" dur="1" fill="hold"/>
                                  <p:tgtEl>
                                    <p:spTgt spid="5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f81b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ill Sundblad &amp; Kim R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Conceptual Based Teaching and Learning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traight Connector 3"/>
          <p:cNvSpPr/>
          <p:nvPr/>
        </p:nvSpPr>
        <p:spPr>
          <a:xfrm>
            <a:off x="380880" y="1447920"/>
            <a:ext cx="83822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1:56:35Z</dcterms:created>
  <dc:creator>Administrator</dc:creator>
  <dc:description/>
  <dc:language>en-US</dc:language>
  <cp:lastModifiedBy>Administrator</cp:lastModifiedBy>
  <dcterms:modified xsi:type="dcterms:W3CDTF">2012-12-18T12:08:24Z</dcterms:modified>
  <cp:revision>2</cp:revision>
  <dc:subject/>
  <dc:title>PLAEA Principals</dc:title>
</cp:coreProperties>
</file>