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037-0466-426D-869F-AD346CCF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47A-5461-4AB2-83B8-45D13CE8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B74A-B76E-4156-959D-E767D3CC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AA1D-1414-4225-9DB0-7EAAD557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362-D474-4D4D-8800-37FE53A5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6C9-A377-47FB-9077-DF665624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3FA-E444-4C47-A9C0-B64B6190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9FE-9EB1-45A3-8A54-1641F62F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5D5-5FD3-455E-B16F-432B8FBF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4A8-4EA6-455E-9F02-E7725EEB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8C4D-D647-4327-BA9D-88D17B6A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DF3-4E22-4101-A659-5559724B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82A5-9652-49C8-A33B-F80D4DAC3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EA Princip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lcome and Happy Holi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2981160" cy="153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971800" y="533520"/>
            <a:ext cx="2981160" cy="1533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5943600" y="533520"/>
            <a:ext cx="29811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oyce Fisher – Immunities to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240" y="1828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1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your commit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2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ognize counter-productive behavi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3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competing commit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4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me your big assum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5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rn how to overcome your big assum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4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riet Ada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Digital Citizenship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3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ws &amp; No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560" y="12949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lanced Leadership (McREL) – 7 days in 2013-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w Compact – AEA Systems’ bold statement of co-ownership of student learning; goals of early literacy and reducing achievement ga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4K – Collaborating for Iowa’s Kids – statewide focus of Early Literacy (by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grade) thru work teams; educator quality, RTI, Iowa Core and School Impro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uary 29 Innovation Showcase – need 8 volunteers to share/engage in 15 minu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uary 29 – also be learning about Instructional Rounds for our visits to MNW (2.18) &amp; G-T (2.19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3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543800" y="0"/>
            <a:ext cx="130968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9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ill Sundblad &amp; Kim R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onceptual Based Teaching and Learnin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3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1:56:35Z</dcterms:created>
  <dc:creator>Administrator</dc:creator>
  <dc:description/>
  <dc:language>en-US</dc:language>
  <cp:lastModifiedBy>Administrator</cp:lastModifiedBy>
  <dcterms:modified xsi:type="dcterms:W3CDTF">2012-12-18T12:08:24Z</dcterms:modified>
  <cp:revision>2</cp:revision>
  <dc:subject/>
  <dc:title>PLAEA Principals</dc:title>
</cp:coreProperties>
</file>