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BBF-C956-40BD-B152-99BC3751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4F4-F1C1-4D82-B912-E4F3CAC3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E1C-5052-42B6-9838-0C1C6C65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FDF-DA54-41BA-A0DB-7A4494AD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5EC-489F-401F-808F-6CDFA93C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0B7-5B29-4A91-9DDB-BC61D0E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BE9-6DA4-4B8B-8F67-0FB29D36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D98-3BAF-4FCB-81CB-93A2962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99A-9B8A-4795-943F-496305CA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BE1-44D3-4C28-8C6C-E5A9F19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3B1-A553-4134-B866-575A6CB4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A41-635A-4864-89C7-423D4B0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9CA-461A-40E9-A37A-AE3B40F9D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EA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and Happy 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97180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9811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yce Fisher – Immunities to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your commi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 counter-productive behavi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3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competing commit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4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5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 how to overco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4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riet Ad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igital Citizenshi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d Leadership (McREL) – 7 days in 2013-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Compact – AEA Systems’ bold statement of co-ownership of student learning; goals of early literacy and reducing achievement g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4K – Collaborating for Iowa’s Kids – statewide focus of Early Literacy (by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grade) thru work teams; educator quality, RTI, Iowa Core and School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Innovation Showcase – need 8 volunteers to share/engage in 15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– also be learning about Instructional Rounds for our visits to MNW (2.18) &amp; G-T (2.1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3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43800" y="0"/>
            <a:ext cx="13096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Sundblad &amp; Kim R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ceptual Based Teaching and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1:56:35Z</dcterms:created>
  <dc:creator>Administrator</dc:creator>
  <dc:description/>
  <dc:language>en-US</dc:language>
  <cp:lastModifiedBy>Administrator</cp:lastModifiedBy>
  <dcterms:modified xsi:type="dcterms:W3CDTF">2012-12-18T12:08:24Z</dcterms:modified>
  <cp:revision>2</cp:revision>
  <dc:subject/>
  <dc:title>PLAEA Principals</dc:title>
</cp:coreProperties>
</file>