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0B87-91FD-4EFB-A6D5-6C5070650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9058-CC75-4CBE-AED4-5DD1A8C27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2BFA-7BF2-406D-92A1-7C18C6126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CC31-D83E-4701-9F3D-DE4D5DEBF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FDEC-36AE-4151-92A3-0F580E4DF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F366-23BC-4879-973D-4837EF902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5078-2EE8-4B19-AB30-0F73B9AE1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9AE4-0143-4D5F-AE5B-B775CEFCE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3F8A-50B1-489B-B954-44D6EBBC7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6C54-AD09-4A46-8673-69C1A581B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9456-ECF3-47E0-9A72-1E6252507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4B2F-36AA-4EAB-9C5B-8C6DBAA8F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640D8-4959-470A-96A6-E4070F9593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AEA Princip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elcome and Happy Holid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533520"/>
            <a:ext cx="2981160" cy="1533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2971800" y="533520"/>
            <a:ext cx="2981160" cy="1533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3"/>
          <a:stretch/>
        </p:blipFill>
        <p:spPr>
          <a:xfrm>
            <a:off x="5943600" y="533520"/>
            <a:ext cx="2981160" cy="15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royce Fisher – Immunities to Chang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28240" y="18288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tep 1: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dentify your commit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tep 2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cognize counter-productive behavi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tep 3: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dentify competing commitmen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tep 4: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ame your big assump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tep 5: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earn how to overcome your big assump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Straight Connector 4"/>
          <p:cNvSpPr/>
          <p:nvPr/>
        </p:nvSpPr>
        <p:spPr>
          <a:xfrm>
            <a:off x="380880" y="1371600"/>
            <a:ext cx="83822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rriet Adam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34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000000"/>
                </a:solidFill>
                <a:latin typeface="Calibri"/>
              </a:rPr>
              <a:t>Digital Citizenship</a:t>
            </a:r>
            <a:endParaRPr b="0" lang="en-US" sz="1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traight Connector 3"/>
          <p:cNvSpPr/>
          <p:nvPr/>
        </p:nvSpPr>
        <p:spPr>
          <a:xfrm>
            <a:off x="380880" y="1447920"/>
            <a:ext cx="83822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ews &amp; No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560" y="1294920"/>
            <a:ext cx="8839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alanced Leadership (McREL) – 7 days in 2013-14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ew Compact – AEA Systems’ bold statement of co-ownership of student learning; goals of early literacy and reducing achievement gap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4K – Collaborating for Iowa’s Kids – statewide focus of Early Literacy (by 3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grade) thru work teams; educator quality, RTI, Iowa Core and School Improve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January 29 Innovation Showcase – need 8 volunteers to share/engage in 15 minut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January 29 – also be learning about Instructional Rounds for our visits to MNW (2.18) &amp; G-T (2.19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traight Connector 3"/>
          <p:cNvSpPr/>
          <p:nvPr/>
        </p:nvSpPr>
        <p:spPr>
          <a:xfrm>
            <a:off x="380880" y="1143000"/>
            <a:ext cx="83822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7543800" y="0"/>
            <a:ext cx="1309680" cy="981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3096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4f81b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4f81b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4f81b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4f81b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" dur="1" fill="hold"/>
                                  <p:tgtEl>
                                    <p:spTgt spid="5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4f81b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ill Sundblad &amp; Kim R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Conceptual Based Teaching and Learning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traight Connector 3"/>
          <p:cNvSpPr/>
          <p:nvPr/>
        </p:nvSpPr>
        <p:spPr>
          <a:xfrm>
            <a:off x="380880" y="1447920"/>
            <a:ext cx="83822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8T11:56:35Z</dcterms:created>
  <dc:creator>Administrator</dc:creator>
  <dc:description/>
  <dc:language>en-US</dc:language>
  <cp:lastModifiedBy>Administrator</cp:lastModifiedBy>
  <dcterms:modified xsi:type="dcterms:W3CDTF">2012-12-18T12:08:24Z</dcterms:modified>
  <cp:revision>2</cp:revision>
  <dc:subject/>
  <dc:title>PLAEA Principals</dc:title>
</cp:coreProperties>
</file>