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A1A-E3BA-48FE-A637-F03C5CFA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5D88-17D1-46D9-AC63-975BA554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3E0-0CE5-4A17-B18E-C0A67606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C11-45E3-4242-90E5-3198D576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3B6-4041-4C65-A7CF-543646B6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A98-AF42-4CFB-9B8B-E2C01026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C4F-C9F9-4D04-8F92-0BF43EA6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6E7-931E-4520-9695-77B76DEF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DC4-C59D-489D-B42D-73F51D86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A7C-B852-46B2-B46D-2E4CB077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0FA-0590-4950-B5C1-C3BB64D1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A1A-9172-4D95-A76C-095FEC25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72E9-F4AA-4832-BB8E-5FF1EDEB1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EA 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lcome and Happy Holi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2981160" cy="153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971800" y="533520"/>
            <a:ext cx="2981160" cy="1533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5943600" y="533520"/>
            <a:ext cx="29811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oyce Fisher – Immunities to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240" y="1828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1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your commit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2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ognize counter-productive behavi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3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competing commit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4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me your big assum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5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 how to overcome your big assum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4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riet Ad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Digital Citizenship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3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ws &amp; No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560" y="12949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lanced Leadership (McREL) – 7 days in 2013-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w Compact – AEA Systems’ bold statement of co-ownership of student learning; goals of early literacy and reducing achievement ga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4K – Collaborating for Iowa’s Kids – statewide focus of Early Literacy (by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grade) thru work teams; educator quality, RTI, Iowa Core and School Impro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29 Innovation Showcase – need 8 volunteers to share/engage in 15 minu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29 – also be learning about Instructional Rounds for our visits to MNW (2.18) &amp; G-T (2.1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3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543800" y="0"/>
            <a:ext cx="130968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9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ill Sundblad &amp; Kim R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onceptual Based Teaching and Learnin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1:56:35Z</dcterms:created>
  <dc:creator>Administrator</dc:creator>
  <dc:description/>
  <dc:language>en-US</dc:language>
  <cp:lastModifiedBy>Administrator</cp:lastModifiedBy>
  <dcterms:modified xsi:type="dcterms:W3CDTF">2012-12-18T12:08:24Z</dcterms:modified>
  <cp:revision>2</cp:revision>
  <dc:subject/>
  <dc:title>PLAEA Principals</dc:title>
</cp:coreProperties>
</file>