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574B-612F-4CB6-A3E9-DE19FCEC7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40B0-7BCC-4535-8CA5-A102A167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3612-D278-412E-A1B5-4D566EF4A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95DC-8D4A-4C60-B274-46D9E5B9C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F258-634A-44C1-9487-84BBA81C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2D9F-A512-449A-8C14-2C3DB980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47FC-94C1-4B7F-BC1B-F48BD3D6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5C32-43BB-4159-B0A1-0884C76C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7954-F4A7-4CC7-8E09-9F40F988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1654-4DAC-4DB9-B62B-4C1C5EEA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6CEE-72FC-425F-9492-1AA5FB74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DABA-8718-4A3B-8C57-EA91DA8B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8F85-C03D-49E4-BD9F-EBB76715CB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Leadership f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2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ent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ay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ovember 20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ll children will be Literate by the end of 3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grade.”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What do you </a:t>
            </a:r>
            <a:r>
              <a:rPr b="0" i="1" lang="en-US" sz="5600" spc="-1" strike="noStrike">
                <a:solidFill>
                  <a:srgbClr val="000000"/>
                </a:solidFill>
                <a:latin typeface="Calibri"/>
              </a:rPr>
              <a:t>think</a:t>
            </a: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 of this statewide focus goal?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Can </a:t>
            </a:r>
            <a:r>
              <a:rPr b="1" lang="en-US" sz="5600" spc="-1" strike="noStrike" u="sng">
                <a:solidFill>
                  <a:srgbClr val="000000"/>
                </a:solidFill>
                <a:uFillTx/>
                <a:latin typeface="Calibri"/>
              </a:rPr>
              <a:t>we</a:t>
            </a: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 do it?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traight Connector 4"/>
          <p:cNvSpPr/>
          <p:nvPr/>
        </p:nvSpPr>
        <p:spPr>
          <a:xfrm>
            <a:off x="457200" y="175248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eacher Leadership &amp; Compensation Task Force Recommend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Speak in </a:t>
            </a:r>
            <a:r>
              <a:rPr b="1" lang="en-US" sz="6600" spc="-1" strike="noStrike" u="sng">
                <a:solidFill>
                  <a:srgbClr val="000000"/>
                </a:solidFill>
                <a:uFillTx/>
                <a:latin typeface="Calibri"/>
              </a:rPr>
              <a:t>support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of the recommendations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Speak </a:t>
            </a:r>
            <a:r>
              <a:rPr b="1" lang="en-US" sz="6600" spc="-1" strike="noStrike" u="sng">
                <a:solidFill>
                  <a:srgbClr val="000000"/>
                </a:solidFill>
                <a:uFillTx/>
                <a:latin typeface="Calibri"/>
              </a:rPr>
              <a:t>against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the recommendations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traight Connector 3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orth Central Hub Manager;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ynne Campbell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(Iowa State University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e is $ left to be spent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ws &amp; No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860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llying Summit Nov 27 – Why will this be differen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chnology Association of Iowa – Hyper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EM Nov 13 meeting notes (wiki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petency Based Nov 13 meeting notes (wiki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xt learning is Dec 18 – Core and Conceptual Based Teaching &amp; Learn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an 29 – Innovation Showcase – contact Jeff if you want to share your stor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ructional Rounds visits in Feb (18-MNW, 19-G-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traight Connector 3"/>
          <p:cNvSpPr/>
          <p:nvPr/>
        </p:nvSpPr>
        <p:spPr>
          <a:xfrm>
            <a:off x="457200" y="114300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oyce Fish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880" y="2362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Immunities To Chang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7T13:21:18Z</dcterms:created>
  <dc:creator>Administrator</dc:creator>
  <dc:description/>
  <dc:language>en-US</dc:language>
  <cp:lastModifiedBy>Administrator</cp:lastModifiedBy>
  <dcterms:modified xsi:type="dcterms:W3CDTF">2012-11-17T13:34:29Z</dcterms:modified>
  <cp:revision>7</cp:revision>
  <dc:subject/>
  <dc:title>Principal Leadership for  the 21st Century</dc:title>
</cp:coreProperties>
</file>