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FEB-4BDC-4789-B475-83D2B84C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85E-9D8C-43E2-ACE9-A0FBB162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962-2DEB-4ABA-8B78-84A9AE1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888-A98F-44B2-BC49-F9F1BEC6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588-337F-4278-97B1-10E4152F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547-647B-4BB3-9204-BEA1860C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9A5-44C1-4669-BDA4-83F3E00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F7F-8B24-490D-AB51-AC66BE89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721-E626-44A9-9F85-0423B56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10D-D21E-4EF7-9F7B-59D6532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414-C830-45B9-AB5A-C9EE015E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AA1-6256-4588-B118-8080B05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633-C526-4B71-96B9-A613C93EB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Leadership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l children will be Literate by the end of 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grad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0" i="1" lang="en-US" sz="56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of this statewide focus goal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we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do it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cher Leadership &amp; Compensation Task Force Recomme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in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suppor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of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agains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3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th Central Hub Manager;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ynne Campbe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owa State Univers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$ left to be spe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llying Summit Nov 27 – Why will this be diffe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Association of Iowa – Hyper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M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ency Based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learning is Dec 18 – Core and Conceptual Based Teaching &amp;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 29 – Innovation Showcase – contact Jeff if you want to share your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al Rounds visits in Feb (18-MNW, 19-G-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yce Fis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munities To Ch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21:18Z</dcterms:created>
  <dc:creator>Administrator</dc:creator>
  <dc:description/>
  <dc:language>en-US</dc:language>
  <cp:lastModifiedBy>Administrator</cp:lastModifiedBy>
  <dcterms:modified xsi:type="dcterms:W3CDTF">2012-11-17T13:34:29Z</dcterms:modified>
  <cp:revision>7</cp:revision>
  <dc:subject/>
  <dc:title>Principal Leadership for  the 21st Century</dc:title>
</cp:coreProperties>
</file>