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AEB-1BD4-41A3-A096-E2C54FF3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D5F-FD35-41E9-B29E-0C041E4C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56E-8AFA-4D6D-AB05-5EDD6828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33F-1695-46FB-AFE4-FA561254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08A-7F33-4253-994F-FA252DE7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BEE-E1AF-4E36-8406-54CEC4C5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119-C04B-4C3C-8A25-27AFE2FF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316-36DA-40E4-BBA0-B04727B2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04A-91EA-48DA-828A-80AB9254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3D1-81D1-4432-A5A9-CDF5117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5F4-D89B-440A-89EC-E0FEA207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A89-F574-4A0D-A3A3-4E16F013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5A35-1062-4A32-8AA3-921590F5B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Leadership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ll children will be Literate by the end of 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grade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0" i="1" lang="en-US" sz="56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of this statewide focus goal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an 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we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do it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acher Leadership &amp; Compensation Task Force Recommend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in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suppor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of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agains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3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th Central Hub Manager;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ynne Campbe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Iowa State Universit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$ left to be spen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llying Summit Nov 27 – Why will this be diffe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Association of Iowa – Hyper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M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ency Based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learning is Dec 18 – Core and Conceptual Based Teaching &amp;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 29 – Innovation Showcase – contact Jeff if you want to share your st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ctional Rounds visits in Feb (18-MNW, 19-G-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yce Fis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munities To Cha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21:18Z</dcterms:created>
  <dc:creator>Administrator</dc:creator>
  <dc:description/>
  <dc:language>en-US</dc:language>
  <cp:lastModifiedBy>Administrator</cp:lastModifiedBy>
  <dcterms:modified xsi:type="dcterms:W3CDTF">2012-11-17T13:34:29Z</dcterms:modified>
  <cp:revision>7</cp:revision>
  <dc:subject/>
  <dc:title>Principal Leadership for  the 21st Century</dc:title>
</cp:coreProperties>
</file>