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F5D-F629-4658-8AD4-5D220707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2AF-BD9A-43E1-988C-8E75D47C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57E-FE86-41ED-89A6-2EB2F1ED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F5E-C0D3-4BB3-A0AB-9F6B4FDF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F8F-B705-44BB-A7CD-CAEC2CD4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816-49D7-4DEA-8391-E2C97C0E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61C-E0D4-41BB-B6CD-B3F6EB61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927-B264-495F-B69A-9A5DBFA0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DF9-8371-49AA-91C6-D137F825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E8C-20B3-485C-9D49-98D62FCD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089-CD8D-423F-BED4-CDA23563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B46-175C-489C-88E4-9C4E992C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614E-ED85-4B54-8F4C-5F861C41B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Leadership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20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ll children will be Literate by the end of 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grade.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What do you </a:t>
            </a:r>
            <a:r>
              <a:rPr b="0" i="1" lang="en-US" sz="5600" spc="-1" strike="noStrike">
                <a:solidFill>
                  <a:srgbClr val="000000"/>
                </a:solidFill>
                <a:latin typeface="Calibri"/>
              </a:rPr>
              <a:t>think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 of this statewide focus goal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an </a:t>
            </a:r>
            <a:r>
              <a:rPr b="1" lang="en-US" sz="5600" spc="-1" strike="noStrike" u="sng">
                <a:solidFill>
                  <a:srgbClr val="000000"/>
                </a:solidFill>
                <a:uFillTx/>
                <a:latin typeface="Calibri"/>
              </a:rPr>
              <a:t>we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 do it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4"/>
          <p:cNvSpPr/>
          <p:nvPr/>
        </p:nvSpPr>
        <p:spPr>
          <a:xfrm>
            <a:off x="457200" y="1752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acher Leadership &amp; Compensation Task Force Recommend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peak in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support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of the recommendation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peak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against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the recommendation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3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rth Central Hub Manager;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ynne Campbe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Iowa State Universit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$ left to be spen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s &amp;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llying Summit Nov 27 – Why will this be differ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y Association of Iowa – Hyper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M Nov 13 meeting notes (wik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etency Based Nov 13 meeting notes (wik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xt learning is Dec 18 – Core and Conceptual Based Teaching &amp; Lear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 29 – Innovation Showcase – contact Jeff if you want to share your sto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ctional Rounds visits in Feb (18-MNW, 19-G-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3"/>
          <p:cNvSpPr/>
          <p:nvPr/>
        </p:nvSpPr>
        <p:spPr>
          <a:xfrm>
            <a:off x="457200" y="11430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yce Fis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munities To Chan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21:18Z</dcterms:created>
  <dc:creator>Administrator</dc:creator>
  <dc:description/>
  <dc:language>en-US</dc:language>
  <cp:lastModifiedBy>Administrator</cp:lastModifiedBy>
  <dcterms:modified xsi:type="dcterms:W3CDTF">2012-11-17T13:34:29Z</dcterms:modified>
  <cp:revision>7</cp:revision>
  <dc:subject/>
  <dc:title>Principal Leadership for  the 21st Century</dc:title>
</cp:coreProperties>
</file>