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579-FD2D-42EC-9D87-B5AAB34C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CBE-E10D-4E6A-89B6-EE28688D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657-8CB7-402D-93CB-34A0E4E5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030-F1B8-43AB-BF19-96177CE4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37B-2396-4BCC-9F45-1ABBE12F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FB0-B808-4F4F-8174-B067C090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CCC-368C-4E69-B4A7-2368A42A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D75-B57C-43AD-BF04-D9120F1A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F8F-6DCA-4D31-A2D8-E0E3262C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F40-62B8-4E0D-A8B4-4195AE05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F11-85AF-45A3-BA49-C5E41B3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60E-CC1E-45AD-9FA5-98B1D962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0B49-38CD-4035-A73C-97E887908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Leadership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20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ll children will be Literate by the end of 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grade.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0" i="1" lang="en-US" sz="56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of this statewide focus goal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an 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we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do it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acher Leadership &amp; Compensation Task Force Recommend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in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suppor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of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agains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3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th Central Hub Manager;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ynne Campbe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Iowa State Universit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$ left to be spen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llying Summit Nov 27 – Why will this be diffe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Association of Iowa – Hyper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M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ency Based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learning is Dec 18 – Core and Conceptual Based Teaching &amp;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 29 – Innovation Showcase – contact Jeff if you want to share your st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ctional Rounds visits in Feb (18-MNW, 19-G-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yce Fis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munities To Cha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21:18Z</dcterms:created>
  <dc:creator>Administrator</dc:creator>
  <dc:description/>
  <dc:language>en-US</dc:language>
  <cp:lastModifiedBy>Administrator</cp:lastModifiedBy>
  <dcterms:modified xsi:type="dcterms:W3CDTF">2012-11-17T13:34:29Z</dcterms:modified>
  <cp:revision>7</cp:revision>
  <dc:subject/>
  <dc:title>Principal Leadership for  the 21st Century</dc:title>
</cp:coreProperties>
</file>