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134-29DB-4F5E-B71E-B0486A18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8E6-1044-4969-8DA8-CF80EDAC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A68-28D2-433B-BBBD-83777505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D84-4945-47F1-8485-DC12F300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5B2-E8D0-44FC-9B5F-829AAFA3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7BC-8EC0-4E1D-A43C-61BBB34F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E5D-7BA2-4578-83D9-BDECE01F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637-1B06-4055-8A37-F88CB9D3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916-BCFC-4C1E-97B5-2E677FED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842-674D-4FD0-A238-E6B94476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3D4-BDAC-45F7-BC15-49EDB1DA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EE0-886D-4275-8148-83A11DEE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D3BD-4D85-4E6B-AB43-F75E6966C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Leadership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20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ll children will be Literate by the end of 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grade.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0" i="1" lang="en-US" sz="5600" spc="-1" strike="noStrike">
                <a:solidFill>
                  <a:srgbClr val="000000"/>
                </a:solidFill>
                <a:latin typeface="Calibri"/>
              </a:rPr>
              <a:t>think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of this statewide focus goal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an 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Calibri"/>
              </a:rPr>
              <a:t>we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do it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4"/>
          <p:cNvSpPr/>
          <p:nvPr/>
        </p:nvSpPr>
        <p:spPr>
          <a:xfrm>
            <a:off x="457200" y="1752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acher Leadership &amp; Compensation Task Force Recommend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in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suppor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of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agains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3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th Central Hub Manager;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ynne Campbe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Iowa State Universit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$ left to be spen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llying Summit Nov 27 – Why will this be diffe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y Association of Iowa – Hyper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M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etency Based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xt learning is Dec 18 – Core and Conceptual Based Teaching &amp; Le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 29 – Innovation Showcase – contact Jeff if you want to share your sto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ctional Rounds visits in Feb (18-MNW, 19-G-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3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yce Fis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munities To Chan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21:18Z</dcterms:created>
  <dc:creator>Administrator</dc:creator>
  <dc:description/>
  <dc:language>en-US</dc:language>
  <cp:lastModifiedBy>Administrator</cp:lastModifiedBy>
  <dcterms:modified xsi:type="dcterms:W3CDTF">2012-11-17T13:34:29Z</dcterms:modified>
  <cp:revision>7</cp:revision>
  <dc:subject/>
  <dc:title>Principal Leadership for  the 21st Century</dc:title>
</cp:coreProperties>
</file>